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044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-360"/>
            <a:ext cx="3038400" cy="46044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8440" y="693720"/>
            <a:ext cx="461808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774280"/>
            <a:ext cx="3038400" cy="4600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774280"/>
            <a:ext cx="3038400" cy="4600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lstStyle>
            <a:lvl1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6533BDE0-E508-4877-930A-0268756D0F6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970440" y="8774280"/>
            <a:ext cx="30384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02B61675-2F1F-408C-8BC7-B372752938E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b">
            <a:noAutofit/>
          </a:bodyPr>
          <a:p>
            <a:pPr algn="r"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fld id="{46ABEB54-48BC-4B32-AC44-CCC98514D992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9844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01640" y="4387320"/>
            <a:ext cx="5608800" cy="41562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s Hutchinson River Parkway, Cross Bronx Expressway and New England Thruway to Cross Island Parkway, Van Wyck Expressway, LIE, and Grand Centr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970440" y="8774280"/>
            <a:ext cx="30384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4A7F6038-8213-4479-94A9-86885A297EC3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9844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600" bIns="30600" anchor="b">
            <a:noAutofit/>
          </a:bodyPr>
          <a:p>
            <a:pPr algn="r"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fld id="{88CDB8CB-764E-4D52-A06C-EE99DE21D423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970440" y="8774280"/>
            <a:ext cx="30384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6C918ADE-1341-4434-A786-EEE8D187DC44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9844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600" bIns="30600" anchor="b">
            <a:noAutofit/>
          </a:bodyPr>
          <a:p>
            <a:pPr algn="r"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fld id="{B583EB3A-379F-44E9-B025-3A87659BE2E9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E9BE-B30C-46B9-9934-DAAB9D80A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2397-7F06-48F4-AAE1-37C733FC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EC82-9BDE-4C28-BA40-8FC090D67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C425-198E-41AB-BE06-14113DE7F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EE28-7C60-4A4A-9132-2F705BCFA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0B71-E4FF-4DF5-A2AB-16913FE7F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9A9D-794A-4E88-AED5-89222E57B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20B4-DDFA-4FB6-8FCC-0E1F9D1BF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7D0E-3070-40D3-9FF4-E50A9C09A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FBEC-C24C-4D83-9D24-A59B67BE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E453-E44E-4CFC-8544-5BDF6205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CAF1-DB45-4EE5-924C-1480D768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8CA53-AD0A-4FB8-980A-AD43FA1B6D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BRONX16"/>
          <p:cNvPicPr/>
          <p:nvPr/>
        </p:nvPicPr>
        <p:blipFill>
          <a:blip r:embed="rId1"/>
          <a:stretch/>
        </p:blipFill>
        <p:spPr>
          <a:xfrm>
            <a:off x="1297080" y="0"/>
            <a:ext cx="66276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-304920" y="4160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1066680" y="307080"/>
            <a:ext cx="70866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 Black"/>
              </a:rPr>
              <a:t>Replacement of the Queens Approach Bronx-Whitestone B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9"/>
          <p:cNvSpPr/>
          <p:nvPr/>
        </p:nvSpPr>
        <p:spPr>
          <a:xfrm>
            <a:off x="1447920" y="2971800"/>
            <a:ext cx="6095880" cy="79488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4600" spc="-1" strike="noStrike">
                <a:solidFill>
                  <a:srgbClr val="ffffff"/>
                </a:solidFill>
                <a:latin typeface="Arial Black"/>
              </a:rPr>
              <a:t>Risk Assessmen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1606E-8107-4F03-B69C-96F7514CF0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4"/>
          <p:cNvGrpSpPr/>
          <p:nvPr/>
        </p:nvGrpSpPr>
        <p:grpSpPr>
          <a:xfrm>
            <a:off x="228600" y="4495680"/>
            <a:ext cx="2209680" cy="2439360"/>
            <a:chOff x="228600" y="4495680"/>
            <a:chExt cx="2209680" cy="2439360"/>
          </a:xfrm>
        </p:grpSpPr>
        <p:graphicFrame>
          <p:nvGraphicFramePr>
            <p:cNvPr id="54" name="Object 5"/>
            <p:cNvGraphicFramePr/>
            <p:nvPr/>
          </p:nvGraphicFramePr>
          <p:xfrm>
            <a:off x="564840" y="4495680"/>
            <a:ext cx="1873440" cy="2076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5" name="Object 5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64840" y="4495680"/>
                      <a:ext cx="1873440" cy="207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" name="Text Box 6"/>
            <p:cNvSpPr/>
            <p:nvPr/>
          </p:nvSpPr>
          <p:spPr>
            <a:xfrm>
              <a:off x="228600" y="6109560"/>
              <a:ext cx="2065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Bridges &amp; Tunne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Major Cost 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s and Miti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80880" y="1338120"/>
          <a:ext cx="7925040" cy="4422960"/>
        </p:xfrm>
        <a:graphic>
          <a:graphicData uri="http://schemas.openxmlformats.org/drawingml/2006/table">
            <a:tbl>
              <a:tblPr/>
              <a:tblGrid>
                <a:gridCol w="3124440"/>
                <a:gridCol w="1676160"/>
                <a:gridCol w="3124440"/>
              </a:tblGrid>
              <a:tr h="176472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tigation Pl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61000">
                <a:tc>
                  <a:txBody>
                    <a:bodyPr lIns="5400" rIns="5400" tIns="54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tional costs to address mitigation of Community Sensitivities such as noise, and construction related environmental issu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ue outreach with the community and elected officials, anticipate and address mitigations, such as noise wall installations, and employ extensive site debris managemen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97600">
                <a:tc>
                  <a:txBody>
                    <a:bodyPr lIns="5400" rIns="5400" tIns="54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tional costs resulting from construction delays, such as security and  traffic challeng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dite evaluation and processing of warranted change orders related to delays eliminating any impact to construction progress/schedule.  Continue to review and revise MPT staging to expedite constructio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F0BA1-FA80-4B3A-8B5F-447342351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Major Schedule  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s and Mitig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648320" y="1600200"/>
          <a:ext cx="4038480" cy="3992400"/>
        </p:xfrm>
        <a:graphic>
          <a:graphicData uri="http://schemas.openxmlformats.org/drawingml/2006/table">
            <a:tbl>
              <a:tblPr/>
              <a:tblGrid>
                <a:gridCol w="2001600"/>
                <a:gridCol w="800280"/>
                <a:gridCol w="608040"/>
                <a:gridCol w="62856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685800" y="1447920"/>
          <a:ext cx="7772400" cy="5010120"/>
        </p:xfrm>
        <a:graphic>
          <a:graphicData uri="http://schemas.openxmlformats.org/drawingml/2006/table">
            <a:tbl>
              <a:tblPr/>
              <a:tblGrid>
                <a:gridCol w="2719440"/>
                <a:gridCol w="2247840"/>
                <a:gridCol w="2805120"/>
              </a:tblGrid>
              <a:tr h="166356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tigation Pl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72080"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tional (or different) Maintenance of Traffic needed to accommodate traffic del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sely monitor traffic conditions and be pro-active with correction/ adjustments of MPT/ staging.  Coordinate with NYCDOT and NYSDO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5200"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rder placement problems (Site logistic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ew and ensure Contractor’s means and methods are efficient to eliminate potential delays related to Girder placement.  Use lessons learned from Bronx Approach constructio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89280"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anticipated structural maintenance repair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cipate and aggressively evaluate and inspect existing structure during construction to limit/eliminate resulting delay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10D3E-9D32-4EAB-AA6B-EE7B113AB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143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NEXT STEPS PRIOR TO CONSTRUCTION CONTRACT A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Bid Resul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 Contractor Qualification Hea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Bid Analysis and determine recommendations with respect to low bi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A41F8-67A6-4209-9C83-B95FF0D88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6" descr="2306032357_8643f105e0"/>
          <p:cNvPicPr/>
          <p:nvPr/>
        </p:nvPicPr>
        <p:blipFill>
          <a:blip r:embed="rId1"/>
          <a:stretch/>
        </p:blipFill>
        <p:spPr>
          <a:xfrm>
            <a:off x="-44280" y="533520"/>
            <a:ext cx="9188280" cy="554976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3"/>
          <p:cNvSpPr/>
          <p:nvPr/>
        </p:nvSpPr>
        <p:spPr>
          <a:xfrm>
            <a:off x="-304920" y="4160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21830-DFC9-4A54-9BFE-203DC2F09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4"/>
          <p:cNvGrpSpPr/>
          <p:nvPr/>
        </p:nvGrpSpPr>
        <p:grpSpPr>
          <a:xfrm>
            <a:off x="228600" y="3657600"/>
            <a:ext cx="2209680" cy="2439360"/>
            <a:chOff x="228600" y="3657600"/>
            <a:chExt cx="2209680" cy="2439360"/>
          </a:xfrm>
        </p:grpSpPr>
        <p:graphicFrame>
          <p:nvGraphicFramePr>
            <p:cNvPr id="160" name="Object 5"/>
            <p:cNvGraphicFramePr/>
            <p:nvPr/>
          </p:nvGraphicFramePr>
          <p:xfrm>
            <a:off x="564840" y="3657600"/>
            <a:ext cx="1873440" cy="2076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61" name="Object 5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64840" y="3657600"/>
                      <a:ext cx="1873440" cy="207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2" name="Text Box 6"/>
            <p:cNvSpPr/>
            <p:nvPr/>
          </p:nvSpPr>
          <p:spPr>
            <a:xfrm>
              <a:off x="228600" y="5271480"/>
              <a:ext cx="2065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Bridges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&amp; Tunne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3"/>
          <p:cNvGraphicFramePr/>
          <p:nvPr/>
        </p:nvGraphicFramePr>
        <p:xfrm>
          <a:off x="380880" y="2286000"/>
          <a:ext cx="845820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0"/>
                    <a:ext cx="845820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Text Box 4"/>
          <p:cNvSpPr/>
          <p:nvPr/>
        </p:nvSpPr>
        <p:spPr>
          <a:xfrm>
            <a:off x="232920" y="4038480"/>
            <a:ext cx="730800" cy="276480"/>
          </a:xfrm>
          <a:prstGeom prst="rect">
            <a:avLst/>
          </a:prstGeom>
          <a:solidFill>
            <a:srgbClr val="ffffff"/>
          </a:solidFill>
          <a:ln w="6480">
            <a:solidFill>
              <a:srgbClr val="222268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ON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8081280" y="3962520"/>
            <a:ext cx="825480" cy="276480"/>
          </a:xfrm>
          <a:prstGeom prst="rect">
            <a:avLst/>
          </a:prstGeom>
          <a:solidFill>
            <a:srgbClr val="ffffff"/>
          </a:solidFill>
          <a:ln w="6480">
            <a:solidFill>
              <a:srgbClr val="222268"/>
            </a:solidFill>
            <a:miter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E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5"/>
          <p:cNvSpPr/>
          <p:nvPr/>
        </p:nvSpPr>
        <p:spPr>
          <a:xfrm flipH="1">
            <a:off x="5486040" y="1905120"/>
            <a:ext cx="30481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1"/>
          <p:cNvSpPr/>
          <p:nvPr/>
        </p:nvSpPr>
        <p:spPr>
          <a:xfrm>
            <a:off x="0" y="152280"/>
            <a:ext cx="9144000" cy="703800"/>
          </a:xfrm>
          <a:prstGeom prst="rect">
            <a:avLst/>
          </a:prstGeom>
          <a:solidFill>
            <a:srgbClr val="003366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 Black"/>
              </a:rPr>
              <a:t>Bronx Whitestone Bridge Sequence of Major Wor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 Black"/>
              </a:rPr>
              <a:t>Past-Present-Fu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2"/>
          <p:cNvSpPr/>
          <p:nvPr/>
        </p:nvSpPr>
        <p:spPr>
          <a:xfrm>
            <a:off x="5562720" y="3200400"/>
            <a:ext cx="1371600" cy="838080"/>
          </a:xfrm>
          <a:prstGeom prst="rect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0"/>
          <p:cNvSpPr/>
          <p:nvPr/>
        </p:nvSpPr>
        <p:spPr>
          <a:xfrm>
            <a:off x="380880" y="1055520"/>
            <a:ext cx="2743200" cy="1128960"/>
          </a:xfrm>
          <a:prstGeom prst="rect">
            <a:avLst/>
          </a:prstGeom>
          <a:solidFill>
            <a:srgbClr val="006600"/>
          </a:solidFill>
          <a:ln w="158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2008 –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placement of the Bronx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BW8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1"/>
          <p:cNvSpPr/>
          <p:nvPr/>
        </p:nvSpPr>
        <p:spPr>
          <a:xfrm>
            <a:off x="2819520" y="4876920"/>
            <a:ext cx="3733560" cy="1646640"/>
          </a:xfrm>
          <a:prstGeom prst="rect">
            <a:avLst/>
          </a:prstGeom>
          <a:solidFill>
            <a:srgbClr val="5f5f5f"/>
          </a:solidFill>
          <a:ln w="158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2003-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uspension Span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moval of Stiffening Tru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stallation of Wind Fai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placement of Roadway De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inting of Tow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2"/>
          <p:cNvSpPr/>
          <p:nvPr/>
        </p:nvSpPr>
        <p:spPr>
          <a:xfrm>
            <a:off x="6095880" y="1055520"/>
            <a:ext cx="2743200" cy="1128960"/>
          </a:xfrm>
          <a:prstGeom prst="rect">
            <a:avLst/>
          </a:prstGeom>
          <a:solidFill>
            <a:srgbClr val="262673"/>
          </a:solidFill>
          <a:ln w="158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2011 –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placement of the Queens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BW89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3"/>
          <p:cNvSpPr/>
          <p:nvPr/>
        </p:nvSpPr>
        <p:spPr>
          <a:xfrm>
            <a:off x="3200400" y="1332000"/>
            <a:ext cx="2819520" cy="1128960"/>
          </a:xfrm>
          <a:prstGeom prst="rect">
            <a:avLst/>
          </a:prstGeom>
          <a:solidFill>
            <a:srgbClr val="990033"/>
          </a:solidFill>
          <a:ln w="158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BEYOND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spender Rope Replacement, Main Cable Rehab. and Toll Pla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Straight Arrow Connector 31"/>
          <p:cNvCxnSpPr>
            <a:stCxn id="66" idx="2"/>
          </p:cNvCxnSpPr>
          <p:nvPr/>
        </p:nvCxnSpPr>
        <p:spPr>
          <a:xfrm flipH="1">
            <a:off x="6400080" y="2193840"/>
            <a:ext cx="1067400" cy="13881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lg"/>
          </a:ln>
        </p:spPr>
      </p:cxnSp>
      <p:cxnSp>
        <p:nvCxnSpPr>
          <p:cNvPr id="69" name="Straight Arrow Connector 33"/>
          <p:cNvCxnSpPr>
            <a:stCxn id="64" idx="2"/>
          </p:cNvCxnSpPr>
          <p:nvPr/>
        </p:nvCxnSpPr>
        <p:spPr>
          <a:xfrm>
            <a:off x="1752480" y="2193840"/>
            <a:ext cx="1067760" cy="14644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lg"/>
          </a:ln>
        </p:spPr>
      </p:cxnSp>
      <p:cxnSp>
        <p:nvCxnSpPr>
          <p:cNvPr id="70" name="Straight Arrow Connector 38"/>
          <p:cNvCxnSpPr>
            <a:stCxn id="65" idx="0"/>
          </p:cNvCxnSpPr>
          <p:nvPr/>
        </p:nvCxnSpPr>
        <p:spPr>
          <a:xfrm flipH="1" flipV="1">
            <a:off x="3504600" y="3656880"/>
            <a:ext cx="1181880" cy="1220040"/>
          </a:xfrm>
          <a:prstGeom prst="straightConnector1">
            <a:avLst/>
          </a:prstGeom>
          <a:ln w="25560">
            <a:solidFill>
              <a:srgbClr val="ffffff"/>
            </a:solidFill>
            <a:prstDash val="sysDash"/>
            <a:miter/>
            <a:tailEnd len="med" type="triangle" w="med"/>
          </a:ln>
        </p:spPr>
      </p:cxnSp>
      <p:cxnSp>
        <p:nvCxnSpPr>
          <p:cNvPr id="71" name="Straight Arrow Connector 40"/>
          <p:cNvCxnSpPr/>
          <p:nvPr/>
        </p:nvCxnSpPr>
        <p:spPr>
          <a:xfrm flipV="1">
            <a:off x="4723200" y="3656880"/>
            <a:ext cx="1143720" cy="1220040"/>
          </a:xfrm>
          <a:prstGeom prst="straightConnector1">
            <a:avLst/>
          </a:prstGeom>
          <a:ln w="25560">
            <a:solidFill>
              <a:srgbClr val="ffffff"/>
            </a:solidFill>
            <a:prstDash val="sysDash"/>
            <a:miter/>
            <a:tailEnd len="med" type="stealth" w="lg"/>
          </a:ln>
        </p:spPr>
      </p:cxnSp>
      <p:sp>
        <p:nvSpPr>
          <p:cNvPr id="72" name="Slide Number Placeholder 1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D2E3E-1E0A-4C98-961F-B8A4CAABE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-304920" y="4160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457200" y="868320"/>
            <a:ext cx="8381880" cy="581400"/>
          </a:xfrm>
          <a:prstGeom prst="rect">
            <a:avLst/>
          </a:prstGeom>
          <a:solidFill>
            <a:srgbClr val="003366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Queens Approach Project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aerial view"/>
          <p:cNvPicPr/>
          <p:nvPr/>
        </p:nvPicPr>
        <p:blipFill>
          <a:blip r:embed="rId1"/>
          <a:stretch/>
        </p:blipFill>
        <p:spPr>
          <a:xfrm>
            <a:off x="228600" y="1981080"/>
            <a:ext cx="8686800" cy="309888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76" name="Text Box 5"/>
          <p:cNvSpPr/>
          <p:nvPr/>
        </p:nvSpPr>
        <p:spPr>
          <a:xfrm>
            <a:off x="1447920" y="2286000"/>
            <a:ext cx="1898280" cy="36828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Z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6"/>
          <p:cNvSpPr/>
          <p:nvPr/>
        </p:nvSpPr>
        <p:spPr>
          <a:xfrm>
            <a:off x="1371600" y="28954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7"/>
          <p:cNvSpPr/>
          <p:nvPr/>
        </p:nvSpPr>
        <p:spPr>
          <a:xfrm>
            <a:off x="2286000" y="28954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8"/>
          <p:cNvSpPr/>
          <p:nvPr/>
        </p:nvSpPr>
        <p:spPr>
          <a:xfrm>
            <a:off x="1371600" y="3124080"/>
            <a:ext cx="9144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9"/>
          <p:cNvSpPr/>
          <p:nvPr/>
        </p:nvSpPr>
        <p:spPr>
          <a:xfrm>
            <a:off x="1295280" y="2514600"/>
            <a:ext cx="38124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0"/>
          <p:cNvSpPr/>
          <p:nvPr/>
        </p:nvSpPr>
        <p:spPr>
          <a:xfrm>
            <a:off x="1295280" y="2514600"/>
            <a:ext cx="152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914400" y="5257800"/>
            <a:ext cx="7313760" cy="83808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fffff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5"/>
          <p:cNvSpPr/>
          <p:nvPr/>
        </p:nvSpPr>
        <p:spPr>
          <a:xfrm flipH="1">
            <a:off x="7696080" y="4495680"/>
            <a:ext cx="53352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6"/>
          <p:cNvSpPr/>
          <p:nvPr/>
        </p:nvSpPr>
        <p:spPr>
          <a:xfrm>
            <a:off x="7848720" y="2590920"/>
            <a:ext cx="60948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>
            <a:off x="1371600" y="3352680"/>
            <a:ext cx="5029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8"/>
          <p:cNvSpPr/>
          <p:nvPr/>
        </p:nvSpPr>
        <p:spPr>
          <a:xfrm flipV="1">
            <a:off x="6400800" y="2742840"/>
            <a:ext cx="167652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9"/>
          <p:cNvSpPr/>
          <p:nvPr/>
        </p:nvSpPr>
        <p:spPr>
          <a:xfrm>
            <a:off x="6400800" y="3352680"/>
            <a:ext cx="160020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2"/>
          <p:cNvSpPr/>
          <p:nvPr/>
        </p:nvSpPr>
        <p:spPr>
          <a:xfrm>
            <a:off x="3486240" y="2971800"/>
            <a:ext cx="1758240" cy="36828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ject Lim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1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66A44-F2AF-4613-8A8F-5343CE530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534960" y="4114800"/>
            <a:ext cx="2276280" cy="36828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eens Anch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9"/>
          <p:cNvSpPr/>
          <p:nvPr/>
        </p:nvSpPr>
        <p:spPr>
          <a:xfrm flipV="1">
            <a:off x="762120" y="3733920"/>
            <a:ext cx="45720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4497840" y="4419720"/>
            <a:ext cx="2795760" cy="36828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testone Express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9"/>
          <p:cNvSpPr/>
          <p:nvPr/>
        </p:nvSpPr>
        <p:spPr>
          <a:xfrm flipV="1">
            <a:off x="5943600" y="4038120"/>
            <a:ext cx="457200" cy="3812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5260320" y="2133720"/>
            <a:ext cx="2541240" cy="36828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oss Island Park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9"/>
          <p:cNvSpPr/>
          <p:nvPr/>
        </p:nvSpPr>
        <p:spPr>
          <a:xfrm>
            <a:off x="7772400" y="2362320"/>
            <a:ext cx="53352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0" y="4038480"/>
            <a:ext cx="5029200" cy="22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228600">
              <a:lnSpc>
                <a:spcPct val="100000"/>
              </a:lnSpc>
              <a:spcAft>
                <a:spcPts val="300"/>
              </a:spcAft>
              <a:buClr>
                <a:srgbClr val="99003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structed in 193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228600">
              <a:lnSpc>
                <a:spcPct val="100000"/>
              </a:lnSpc>
              <a:spcAft>
                <a:spcPts val="300"/>
              </a:spcAft>
              <a:buClr>
                <a:srgbClr val="99003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tensive recurring needs for roadway repairs and temporary steel repai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228600">
              <a:lnSpc>
                <a:spcPct val="100000"/>
              </a:lnSpc>
              <a:spcAft>
                <a:spcPts val="300"/>
              </a:spcAft>
              <a:buClr>
                <a:srgbClr val="99003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arrow la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228600">
              <a:lnSpc>
                <a:spcPct val="100000"/>
              </a:lnSpc>
              <a:spcAft>
                <a:spcPts val="300"/>
              </a:spcAft>
              <a:buClr>
                <a:srgbClr val="99003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shoul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228600">
              <a:lnSpc>
                <a:spcPct val="100000"/>
              </a:lnSpc>
              <a:spcAft>
                <a:spcPts val="300"/>
              </a:spcAft>
              <a:buClr>
                <a:srgbClr val="99003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 designed for current traffic loa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228600">
              <a:spcAft>
                <a:spcPts val="300"/>
              </a:spcAft>
              <a:buClr>
                <a:srgbClr val="99003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 not meet current Seismic Standa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EX"/>
          <p:cNvPicPr/>
          <p:nvPr/>
        </p:nvPicPr>
        <p:blipFill>
          <a:blip r:embed="rId1"/>
          <a:stretch/>
        </p:blipFill>
        <p:spPr>
          <a:xfrm>
            <a:off x="4876920" y="152280"/>
            <a:ext cx="4038480" cy="1474920"/>
          </a:xfrm>
          <a:prstGeom prst="rect">
            <a:avLst/>
          </a:prstGeom>
          <a:ln w="9360">
            <a:solidFill>
              <a:srgbClr val="262673"/>
            </a:solidFill>
            <a:miter/>
          </a:ln>
        </p:spPr>
      </p:pic>
      <p:sp>
        <p:nvSpPr>
          <p:cNvPr id="98" name="Text Box 8"/>
          <p:cNvSpPr/>
          <p:nvPr/>
        </p:nvSpPr>
        <p:spPr>
          <a:xfrm>
            <a:off x="5619240" y="83808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11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6000120" y="83808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10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6472800" y="8380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9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Queens Approach4"/>
          <p:cNvPicPr/>
          <p:nvPr/>
        </p:nvPicPr>
        <p:blipFill>
          <a:blip r:embed="rId2"/>
          <a:stretch/>
        </p:blipFill>
        <p:spPr>
          <a:xfrm>
            <a:off x="5105520" y="1676520"/>
            <a:ext cx="3692520" cy="4922640"/>
          </a:xfrm>
          <a:prstGeom prst="rect">
            <a:avLst/>
          </a:prstGeom>
          <a:ln w="12600">
            <a:solidFill>
              <a:srgbClr val="262673"/>
            </a:solidFill>
            <a:miter/>
          </a:ln>
        </p:spPr>
      </p:pic>
      <p:sp>
        <p:nvSpPr>
          <p:cNvPr id="102" name="Rectangle 8"/>
          <p:cNvSpPr/>
          <p:nvPr/>
        </p:nvSpPr>
        <p:spPr>
          <a:xfrm>
            <a:off x="304920" y="228600"/>
            <a:ext cx="4419360" cy="337320"/>
          </a:xfrm>
          <a:prstGeom prst="rect">
            <a:avLst/>
          </a:prstGeom>
          <a:solidFill>
            <a:srgbClr val="003366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ditions: Existing Queens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9" descr="IMG_6374"/>
          <p:cNvPicPr/>
          <p:nvPr/>
        </p:nvPicPr>
        <p:blipFill>
          <a:blip r:embed="rId3"/>
          <a:stretch/>
        </p:blipFill>
        <p:spPr>
          <a:xfrm>
            <a:off x="380880" y="762120"/>
            <a:ext cx="4267440" cy="3200400"/>
          </a:xfrm>
          <a:prstGeom prst="rect">
            <a:avLst/>
          </a:prstGeom>
          <a:ln w="12600">
            <a:solidFill>
              <a:srgbClr val="262673"/>
            </a:solidFill>
            <a:miter/>
          </a:ln>
        </p:spPr>
      </p:pic>
      <p:sp>
        <p:nvSpPr>
          <p:cNvPr id="104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508B6-1071-47B0-B9E1-A2A836561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6" descr="BW-89_CrossSection"/>
          <p:cNvPicPr/>
          <p:nvPr/>
        </p:nvPicPr>
        <p:blipFill>
          <a:blip r:embed="rId1"/>
          <a:stretch/>
        </p:blipFill>
        <p:spPr>
          <a:xfrm>
            <a:off x="5105520" y="1219320"/>
            <a:ext cx="3504960" cy="34225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grpSp>
        <p:nvGrpSpPr>
          <p:cNvPr id="106" name="Group 25"/>
          <p:cNvGrpSpPr/>
          <p:nvPr/>
        </p:nvGrpSpPr>
        <p:grpSpPr>
          <a:xfrm>
            <a:off x="5638680" y="1295280"/>
            <a:ext cx="1162440" cy="382680"/>
            <a:chOff x="5638680" y="1295280"/>
            <a:chExt cx="1162440" cy="382680"/>
          </a:xfrm>
        </p:grpSpPr>
        <p:sp>
          <p:nvSpPr>
            <p:cNvPr id="107" name="Line 14"/>
            <p:cNvSpPr/>
            <p:nvPr/>
          </p:nvSpPr>
          <p:spPr>
            <a:xfrm>
              <a:off x="5638680" y="1295280"/>
              <a:ext cx="0" cy="22860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15"/>
            <p:cNvSpPr/>
            <p:nvPr/>
          </p:nvSpPr>
          <p:spPr>
            <a:xfrm>
              <a:off x="6019560" y="1295280"/>
              <a:ext cx="0" cy="22860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6"/>
            <p:cNvSpPr/>
            <p:nvPr/>
          </p:nvSpPr>
          <p:spPr>
            <a:xfrm>
              <a:off x="6400800" y="1295280"/>
              <a:ext cx="0" cy="22860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7"/>
            <p:cNvSpPr/>
            <p:nvPr/>
          </p:nvSpPr>
          <p:spPr>
            <a:xfrm>
              <a:off x="6782040" y="1295280"/>
              <a:ext cx="0" cy="22860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8"/>
            <p:cNvSpPr/>
            <p:nvPr/>
          </p:nvSpPr>
          <p:spPr>
            <a:xfrm>
              <a:off x="5638680" y="1371240"/>
              <a:ext cx="1143360" cy="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0"/>
            <p:cNvSpPr/>
            <p:nvPr/>
          </p:nvSpPr>
          <p:spPr>
            <a:xfrm>
              <a:off x="5657040" y="1401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12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21"/>
            <p:cNvSpPr/>
            <p:nvPr/>
          </p:nvSpPr>
          <p:spPr>
            <a:xfrm>
              <a:off x="6037920" y="1401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12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23"/>
            <p:cNvSpPr/>
            <p:nvPr/>
          </p:nvSpPr>
          <p:spPr>
            <a:xfrm>
              <a:off x="6419160" y="1401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12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26"/>
          <p:cNvGrpSpPr/>
          <p:nvPr/>
        </p:nvGrpSpPr>
        <p:grpSpPr>
          <a:xfrm>
            <a:off x="7048440" y="1295280"/>
            <a:ext cx="1162440" cy="382680"/>
            <a:chOff x="7048440" y="1295280"/>
            <a:chExt cx="1162440" cy="382680"/>
          </a:xfrm>
        </p:grpSpPr>
        <p:sp>
          <p:nvSpPr>
            <p:cNvPr id="116" name="Line 10"/>
            <p:cNvSpPr/>
            <p:nvPr/>
          </p:nvSpPr>
          <p:spPr>
            <a:xfrm>
              <a:off x="8191800" y="1295280"/>
              <a:ext cx="0" cy="22860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11"/>
            <p:cNvSpPr/>
            <p:nvPr/>
          </p:nvSpPr>
          <p:spPr>
            <a:xfrm>
              <a:off x="7810560" y="1295280"/>
              <a:ext cx="0" cy="22860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2"/>
            <p:cNvSpPr/>
            <p:nvPr/>
          </p:nvSpPr>
          <p:spPr>
            <a:xfrm>
              <a:off x="7429320" y="1295280"/>
              <a:ext cx="0" cy="22860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3"/>
            <p:cNvSpPr/>
            <p:nvPr/>
          </p:nvSpPr>
          <p:spPr>
            <a:xfrm>
              <a:off x="7048440" y="1295280"/>
              <a:ext cx="0" cy="22860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9"/>
            <p:cNvSpPr/>
            <p:nvPr/>
          </p:nvSpPr>
          <p:spPr>
            <a:xfrm>
              <a:off x="7048440" y="1371240"/>
              <a:ext cx="1143360" cy="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24"/>
            <p:cNvSpPr/>
            <p:nvPr/>
          </p:nvSpPr>
          <p:spPr>
            <a:xfrm>
              <a:off x="7066800" y="1401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12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25"/>
            <p:cNvSpPr/>
            <p:nvPr/>
          </p:nvSpPr>
          <p:spPr>
            <a:xfrm>
              <a:off x="7447680" y="1401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12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26"/>
            <p:cNvSpPr/>
            <p:nvPr/>
          </p:nvSpPr>
          <p:spPr>
            <a:xfrm>
              <a:off x="7828920" y="1401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12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Text Box 28"/>
          <p:cNvSpPr/>
          <p:nvPr/>
        </p:nvSpPr>
        <p:spPr>
          <a:xfrm>
            <a:off x="5029200" y="4727520"/>
            <a:ext cx="358128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NEW PIER/ROADW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’ wide lanes with shoul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1"/>
          <p:cNvSpPr/>
          <p:nvPr/>
        </p:nvSpPr>
        <p:spPr>
          <a:xfrm>
            <a:off x="685800" y="304920"/>
            <a:ext cx="7696080" cy="761760"/>
          </a:xfrm>
          <a:prstGeom prst="rect">
            <a:avLst/>
          </a:prstGeom>
          <a:solidFill>
            <a:srgbClr val="003366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ture Newly Constructed Queens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3" descr="Offshore_Proposed"/>
          <p:cNvPicPr/>
          <p:nvPr/>
        </p:nvPicPr>
        <p:blipFill>
          <a:blip r:embed="rId2"/>
          <a:stretch/>
        </p:blipFill>
        <p:spPr>
          <a:xfrm>
            <a:off x="1600200" y="1219320"/>
            <a:ext cx="3327480" cy="24955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27" name="Freeform 30"/>
          <p:cNvSpPr/>
          <p:nvPr/>
        </p:nvSpPr>
        <p:spPr>
          <a:xfrm>
            <a:off x="2933640" y="1849320"/>
            <a:ext cx="2465280" cy="1108080"/>
          </a:xfrm>
          <a:custGeom>
            <a:avLst/>
            <a:gdLst/>
            <a:ahLst/>
            <a:rect l="l" t="t" r="r" b="b"/>
            <a:pathLst>
              <a:path w="2464905" h="1107882">
                <a:moveTo>
                  <a:pt x="0" y="1107882"/>
                </a:moveTo>
                <a:cubicBezTo>
                  <a:pt x="64935" y="955482"/>
                  <a:pt x="129871" y="803082"/>
                  <a:pt x="238539" y="662609"/>
                </a:cubicBezTo>
                <a:cubicBezTo>
                  <a:pt x="347207" y="522136"/>
                  <a:pt x="502257" y="368411"/>
                  <a:pt x="652007" y="265044"/>
                </a:cubicBezTo>
                <a:cubicBezTo>
                  <a:pt x="801757" y="161677"/>
                  <a:pt x="987287" y="84814"/>
                  <a:pt x="1137037" y="42407"/>
                </a:cubicBezTo>
                <a:cubicBezTo>
                  <a:pt x="1286787" y="0"/>
                  <a:pt x="1414008" y="3976"/>
                  <a:pt x="1550505" y="10602"/>
                </a:cubicBezTo>
                <a:cubicBezTo>
                  <a:pt x="1687002" y="17228"/>
                  <a:pt x="1856630" y="56985"/>
                  <a:pt x="1956021" y="82164"/>
                </a:cubicBezTo>
                <a:cubicBezTo>
                  <a:pt x="2055412" y="107343"/>
                  <a:pt x="2062038" y="117945"/>
                  <a:pt x="2146852" y="161677"/>
                </a:cubicBezTo>
                <a:cubicBezTo>
                  <a:pt x="2231666" y="205409"/>
                  <a:pt x="2348285" y="274983"/>
                  <a:pt x="2464905" y="344557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2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75548-AB6A-4879-BED4-A3D40E01EF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3938760"/>
            <a:ext cx="45720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LACEMENT OF THE ENTIRE 1,010 FT QUEENS APPROACH VIADUC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hase 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 Construct New Foundations &amp; Pi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work done under Roadway – no traffic impa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1 thru Mid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hase I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Staged Replacement of Roadway while maintain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rly 2012 – Late 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hase II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 Demolish existing piers/perform ground level site 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work under Roadway – no traffic imp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1FA8D-F172-417A-BF71-CC417FA0E7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228600" y="274680"/>
            <a:ext cx="8763120" cy="639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Mitigation Built into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457200" y="457200"/>
            <a:ext cx="830592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ons Learned from ongoing Bronx Approach Repla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0M of preparatory construction already addre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ve pre-construction outreach with community, elected officials, and other City and State ag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ze Traffic Enforcement 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ffic mitigation measure – Temporary closure of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venue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al coordination of Capital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ruction Task Budget:                      $240,00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gineer’s Estimate:                                 $179,000,0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 Bid                                                       $109,00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 Bid vs. Budget                                    $131,00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228600" y="533520"/>
            <a:ext cx="8686800" cy="581400"/>
          </a:xfrm>
          <a:prstGeom prst="rect">
            <a:avLst/>
          </a:prstGeom>
          <a:solidFill>
            <a:srgbClr val="003366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onstruction Cost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AB25B-34A6-428D-8E29-2A6EC123A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05BFD-9EDE-478A-8C0D-1C382B2D32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228600" y="533520"/>
            <a:ext cx="8686800" cy="581400"/>
          </a:xfrm>
          <a:prstGeom prst="rect">
            <a:avLst/>
          </a:prstGeom>
          <a:solidFill>
            <a:srgbClr val="003366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isk Assessment Results (Post b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457200" y="1295280"/>
            <a:ext cx="8229600" cy="48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struction Cos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 Bid/ Schedu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$109 M/ 42 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k Assessed ($21M/ 5mo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$130 M/ 47 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oject Cost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truction, CSS, Inspection, etc.          $135 M/ 42 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k Assessed ($27M/ 5 mo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$162 M/ 47 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ability Distribution for Remaining Total Project Escalated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rcRect l="0" t="0" r="0" b="8524"/>
          <a:stretch/>
        </p:blipFill>
        <p:spPr>
          <a:xfrm>
            <a:off x="457200" y="1814400"/>
            <a:ext cx="8229600" cy="3748320"/>
          </a:xfrm>
          <a:prstGeom prst="rect">
            <a:avLst/>
          </a:prstGeom>
          <a:ln w="0">
            <a:noFill/>
          </a:ln>
        </p:spPr>
      </p:pic>
      <p:cxnSp>
        <p:nvCxnSpPr>
          <p:cNvPr id="141" name="Straight Arrow Connector 4"/>
          <p:cNvCxnSpPr/>
          <p:nvPr/>
        </p:nvCxnSpPr>
        <p:spPr>
          <a:xfrm>
            <a:off x="1980720" y="2819520"/>
            <a:ext cx="2134440" cy="2160"/>
          </a:xfrm>
          <a:prstGeom prst="straightConnector1">
            <a:avLst/>
          </a:prstGeom>
          <a:ln w="38160">
            <a:solidFill>
              <a:srgbClr val="002060"/>
            </a:solidFill>
            <a:prstDash val="sysDash"/>
            <a:miter/>
            <a:tailEnd len="med" type="triangle" w="med"/>
          </a:ln>
        </p:spPr>
      </p:cxnSp>
      <p:cxnSp>
        <p:nvCxnSpPr>
          <p:cNvPr id="142" name="Straight Arrow Connector 6"/>
          <p:cNvCxnSpPr/>
          <p:nvPr/>
        </p:nvCxnSpPr>
        <p:spPr>
          <a:xfrm flipH="1">
            <a:off x="4114440" y="2972880"/>
            <a:ext cx="2160" cy="2056680"/>
          </a:xfrm>
          <a:prstGeom prst="straightConnector1">
            <a:avLst/>
          </a:prstGeom>
          <a:ln w="34920">
            <a:solidFill>
              <a:srgbClr val="002060"/>
            </a:solidFill>
            <a:prstDash val="sysDash"/>
            <a:miter/>
            <a:tailEnd len="med" type="triangle" w="med"/>
          </a:ln>
        </p:spPr>
      </p:cxnSp>
      <p:sp>
        <p:nvSpPr>
          <p:cNvPr id="143" name="Oval 11"/>
          <p:cNvSpPr/>
          <p:nvPr/>
        </p:nvSpPr>
        <p:spPr>
          <a:xfrm>
            <a:off x="3581280" y="5029200"/>
            <a:ext cx="990720" cy="457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16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7"/>
          <p:cNvSpPr/>
          <p:nvPr/>
        </p:nvSpPr>
        <p:spPr>
          <a:xfrm>
            <a:off x="3276720" y="563868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 Project C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22:03:38Z</dcterms:created>
  <dc:creator>tlewis</dc:creator>
  <dc:description/>
  <dc:language>en-US</dc:language>
  <cp:lastModifiedBy>csaladin</cp:lastModifiedBy>
  <dcterms:modified xsi:type="dcterms:W3CDTF">2011-05-18T16:42:14Z</dcterms:modified>
  <cp:revision>284</cp:revision>
  <dc:subject/>
  <dc:title>Slide 1</dc:title>
</cp:coreProperties>
</file>